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3.wmf" ContentType="image/x-wmf"/>
  <Override PartName="/ppt/media/image50.jpeg" ContentType="image/jpeg"/>
  <Override PartName="/ppt/media/image24.jpeg" ContentType="image/jpeg"/>
  <Override PartName="/ppt/media/image22.png" ContentType="image/png"/>
  <Override PartName="/ppt/media/image21.wmf" ContentType="image/x-wmf"/>
  <Override PartName="/ppt/media/image19.jpeg" ContentType="image/jpeg"/>
  <Override PartName="/ppt/media/image42.jpeg" ContentType="image/jpeg"/>
  <Override PartName="/ppt/media/image17.wmf" ContentType="image/x-wmf"/>
  <Override PartName="/ppt/media/image16.wmf" ContentType="image/x-wmf"/>
  <Override PartName="/ppt/media/image45.jpeg" ContentType="image/jpeg"/>
  <Override PartName="/ppt/media/image15.wmf" ContentType="image/x-wmf"/>
  <Override PartName="/ppt/media/image41.jpeg" ContentType="image/jpeg"/>
  <Override PartName="/ppt/media/image1.jpeg" ContentType="image/jpeg"/>
  <Override PartName="/ppt/media/image23.jpeg" ContentType="image/jpeg"/>
  <Override PartName="/ppt/media/image12.png" ContentType="image/png"/>
  <Override PartName="/ppt/media/image52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3.png" ContentType="image/png"/>
  <Override PartName="/ppt/media/chimes.wav" ContentType="audio/x-wav"/>
  <Override PartName="/ppt/media/image25.jpeg" ContentType="image/jpeg"/>
  <Override PartName="/ppt/media/image34.wmf" ContentType="image/x-wmf"/>
  <Override PartName="/ppt/media/image51.png" ContentType="image/pn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40.jpeg" ContentType="image/jpeg"/>
  <Override PartName="/ppt/media/image44.jpeg" ContentType="image/jpeg"/>
  <Override PartName="/ppt/media/image43.png" ContentType="image/png"/>
  <Override PartName="/ppt/media/image36.wmf" ContentType="image/x-wmf"/>
  <Override PartName="/ppt/media/image46.jpeg" ContentType="image/jpeg"/>
  <Override PartName="/ppt/media/image47.wmf" ContentType="image/x-wmf"/>
  <Override PartName="/ppt/media/image48.jpeg" ContentType="image/jpeg"/>
  <Override PartName="/ppt/media/image39.wmf" ContentType="image/x-wmf"/>
  <Override PartName="/ppt/media/image49.jpeg" ContentType="image/jpeg"/>
  <Override PartName="/ppt/media/image30.jpeg" ContentType="image/jpeg"/>
  <Override PartName="/ppt/media/image33.wmf" ContentType="image/x-wmf"/>
  <Override PartName="/ppt/media/image2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8.jpeg" ContentType="image/jpeg"/>
  <Override PartName="/ppt/media/image4.jpeg" ContentType="image/jpeg"/>
  <Override PartName="/ppt/media/image38.wmf" ContentType="image/x-wmf"/>
  <Override PartName="/ppt/media/image6.png" ContentType="image/png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9283700" cy="6948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A7D8-D0A0-4F3B-8698-A963083B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A11-7F7A-4E76-99C3-4E9B73B4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8DF-105D-4741-8341-FD974683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FD9-4DFD-4FFA-A18C-51CC1971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3AA8-9DE6-464E-A44F-99741EEB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C25-3BA4-45D1-9708-A6A34FA2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6EE2-2882-4C1B-9BFB-1CE6B0A0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CA2-8939-489D-B7DE-39D8893A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08F-8B69-4F0E-AD06-8BC0D487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9C5-A9D8-49C4-9C3E-1BC6FDBB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7C18-A8C3-4D8B-9EE0-18DC9653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7E9-581D-45A6-91F1-AAA7415A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foodpyramid_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03E7-5752-4462-8110-1A8F26C33D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jpeg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00400" y="762120"/>
            <a:ext cx="27432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</a:rPr>
              <a:t>the </a:t>
            </a:r>
            <a:endParaRPr b="0" lang="en-US" sz="8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514600" y="19051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00"/>
                </a:solidFill>
                <a:latin typeface="Century Gothic"/>
              </a:rPr>
              <a:t>FOOD</a:t>
            </a:r>
            <a:r>
              <a:rPr b="0" lang="en-US" sz="8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057400" y="2514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</a:rPr>
              <a:t>Pyramid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124080" y="3962520"/>
            <a:ext cx="28195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3" descr="C:\Documents and Settings\Mrs. Jefferson\Local Settings\Temporary Internet Files\Content.IE5\S1Y9HMWA\MC900286528[1].wmf"/>
          <p:cNvPicPr/>
          <p:nvPr/>
        </p:nvPicPr>
        <p:blipFill>
          <a:blip r:embed="rId1"/>
          <a:stretch/>
        </p:blipFill>
        <p:spPr>
          <a:xfrm>
            <a:off x="380880" y="4495680"/>
            <a:ext cx="1806840" cy="1676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C:\Documents and Settings\Mrs. Jefferson\Local Settings\Temporary Internet Files\Content.IE5\S9S3JBR3\MC900130271[1].wmf"/>
          <p:cNvPicPr/>
          <p:nvPr/>
        </p:nvPicPr>
        <p:blipFill>
          <a:blip r:embed="rId2"/>
          <a:stretch/>
        </p:blipFill>
        <p:spPr>
          <a:xfrm>
            <a:off x="6400800" y="914400"/>
            <a:ext cx="1852560" cy="1698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scretionary Calorie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Extras for luxury food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iscretionary calories are calories that you have left over after you have met your nutrient requirements with choices from MyPyramid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ey can be used for that piece of cake you wanted after eating right all day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nk of your daily calorie limit as a budget and as you eat throughout the day, you spend some of your money (calories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ell, if you have paid for all the needs or necessities then you are left with “extra” spending money for things you would like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9" name="Picture 15" descr="C:\Documents and Settings\Mrs. Jefferson\Local Settings\Temporary Internet Files\Content.IE5\V5WFIWPL\MC900250659[1].wmf"/>
          <p:cNvPicPr/>
          <p:nvPr/>
        </p:nvPicPr>
        <p:blipFill>
          <a:blip r:embed="rId3"/>
          <a:stretch/>
        </p:blipFill>
        <p:spPr>
          <a:xfrm>
            <a:off x="6019920" y="4419720"/>
            <a:ext cx="235404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hysical Activity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trive for 60 minutes or more per day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Along with eating right, one must also do an adequate amount of physical activity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s usually helps  prevent weight gain and many other health related problems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You should strive for 60 minutes a day, but at least 30 is the least amount. 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ome types of physical activity would include: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alking briskly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Hiking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ancing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wimming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Running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Basketball/footbal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-2772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Bicycling, etc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2" name="Picture 5" descr="C:\Documents and Settings\Mrs. Jefferson\Local Settings\Temporary Internet Files\Content.IE5\S9S3JBR3\MC900242173[1].wmf"/>
          <p:cNvPicPr/>
          <p:nvPr/>
        </p:nvPicPr>
        <p:blipFill>
          <a:blip r:embed="rId1"/>
          <a:stretch/>
        </p:blipFill>
        <p:spPr>
          <a:xfrm>
            <a:off x="6858000" y="3657600"/>
            <a:ext cx="1670040" cy="2871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C:\Documents and Settings\Mrs. Jefferson\Local Settings\Temporary Internet Files\Content.IE5\S9S3JBR3\MC900295449[1].wmf"/>
          <p:cNvPicPr/>
          <p:nvPr/>
        </p:nvPicPr>
        <p:blipFill>
          <a:blip r:embed="rId2"/>
          <a:stretch/>
        </p:blipFill>
        <p:spPr>
          <a:xfrm>
            <a:off x="228600" y="3809880"/>
            <a:ext cx="1703520" cy="2857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C:\Documents and Settings\Mrs. Jefferson\Local Settings\Temporary Internet Files\Content.IE5\ISJDE4NR\MC900242171[1].wmf"/>
          <p:cNvPicPr/>
          <p:nvPr/>
        </p:nvPicPr>
        <p:blipFill>
          <a:blip r:embed="rId3"/>
          <a:stretch/>
        </p:blipFill>
        <p:spPr>
          <a:xfrm>
            <a:off x="5334120" y="4648320"/>
            <a:ext cx="156672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ietary Guidelines for American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6" name="Picture 4" descr="Cover of Dietary Guidelines for Americans 2005"/>
          <p:cNvPicPr/>
          <p:nvPr/>
        </p:nvPicPr>
        <p:blipFill>
          <a:blip r:embed="rId1"/>
          <a:stretch/>
        </p:blipFill>
        <p:spPr>
          <a:xfrm>
            <a:off x="2286000" y="1547640"/>
            <a:ext cx="4876920" cy="447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1.  Get adequate nutrients within the calorie nee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4267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Century Gothic"/>
              </a:rPr>
              <a:t>Caloric Breakdown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Carbohydrates:  55-60%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Fat:  No more than 30%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Protein:  10-15 %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Average American eats too much fat, sugar, calories &amp; sodium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Average American doesn’t eat enough fiber.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9" name="Picture 10" descr="Calorie Sources"/>
          <p:cNvPicPr/>
          <p:nvPr/>
        </p:nvPicPr>
        <p:blipFill>
          <a:blip r:embed="rId1"/>
          <a:stretch/>
        </p:blipFill>
        <p:spPr>
          <a:xfrm>
            <a:off x="4952880" y="1828800"/>
            <a:ext cx="31035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2.  Manage weight, balance food intake with exercise outpu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1" name="Picture 2" descr="C:\Documents and Settings\Mrs. Jefferson\Local Settings\Temporary Internet Files\Content.IE5\U9B17W9Z\MC900001154[1].wmf"/>
          <p:cNvPicPr/>
          <p:nvPr/>
        </p:nvPicPr>
        <p:blipFill>
          <a:blip r:embed="rId1"/>
          <a:stretch/>
        </p:blipFill>
        <p:spPr>
          <a:xfrm>
            <a:off x="3276720" y="1974960"/>
            <a:ext cx="2819160" cy="43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3.  Be physically active each day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3" name="Picture 4" descr="fit00"/>
          <p:cNvPicPr/>
          <p:nvPr/>
        </p:nvPicPr>
        <p:blipFill>
          <a:blip r:embed="rId1"/>
          <a:stretch/>
        </p:blipFill>
        <p:spPr>
          <a:xfrm>
            <a:off x="1447920" y="1752480"/>
            <a:ext cx="64008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entury Gothic"/>
              </a:rPr>
              <a:t>4.  Choose a variety of fruits, vegetables, whole grains and fat free or low fat milk products daily.</a:t>
            </a:r>
            <a:endParaRPr b="0" lang="en-US" sz="29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5" name="Picture 5" descr="748_T"/>
          <p:cNvPicPr/>
          <p:nvPr/>
        </p:nvPicPr>
        <p:blipFill>
          <a:blip r:embed="rId1"/>
          <a:stretch/>
        </p:blipFill>
        <p:spPr>
          <a:xfrm>
            <a:off x="1066680" y="4800600"/>
            <a:ext cx="1752840" cy="1352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776_O"/>
          <p:cNvPicPr/>
          <p:nvPr/>
        </p:nvPicPr>
        <p:blipFill>
          <a:blip r:embed="rId2"/>
          <a:stretch/>
        </p:blipFill>
        <p:spPr>
          <a:xfrm>
            <a:off x="3429000" y="38098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935_T"/>
          <p:cNvPicPr/>
          <p:nvPr/>
        </p:nvPicPr>
        <p:blipFill>
          <a:blip r:embed="rId3"/>
          <a:stretch/>
        </p:blipFill>
        <p:spPr>
          <a:xfrm>
            <a:off x="3733920" y="2209680"/>
            <a:ext cx="1533240" cy="1184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772_O"/>
          <p:cNvPicPr/>
          <p:nvPr/>
        </p:nvPicPr>
        <p:blipFill>
          <a:blip r:embed="rId4"/>
          <a:stretch/>
        </p:blipFill>
        <p:spPr>
          <a:xfrm>
            <a:off x="6400800" y="2514600"/>
            <a:ext cx="1905120" cy="285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What's 'In Store' for Dairy"/>
          <p:cNvPicPr/>
          <p:nvPr/>
        </p:nvPicPr>
        <p:blipFill>
          <a:blip r:embed="rId5"/>
          <a:stretch/>
        </p:blipFill>
        <p:spPr>
          <a:xfrm>
            <a:off x="609480" y="1981080"/>
            <a:ext cx="239076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5.  Monitor your intake of fat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atch for naturally occurring invisible fat in foods such as avocados, olives, milk, eggs, etc…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2" name="Picture 6" descr="Crisco Products"/>
          <p:cNvPicPr/>
          <p:nvPr/>
        </p:nvPicPr>
        <p:blipFill>
          <a:blip r:embed="rId1"/>
          <a:stretch/>
        </p:blipFill>
        <p:spPr>
          <a:xfrm>
            <a:off x="5486400" y="3733920"/>
            <a:ext cx="3125880" cy="2396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://t3.gstatic.com/images?q=tbn:ANd9GcTpLXK7Aili2fFJ75ld6mnzsDToMCVd4bRMmrJBiN5j6-fU4Tw&amp;t=1&amp;h=157&amp;w=237&amp;usg=__-M_bE_g6zhIeNGM4-gGLg-bNtFw="/>
          <p:cNvPicPr/>
          <p:nvPr/>
        </p:nvPicPr>
        <p:blipFill>
          <a:blip r:embed="rId2"/>
          <a:stretch/>
        </p:blipFill>
        <p:spPr>
          <a:xfrm>
            <a:off x="914400" y="4114800"/>
            <a:ext cx="2819520" cy="1859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t1.gstatic.com/images?q=tbn:ANd9GcRIsBOguuvX9RRmb5p5nAG_BrNtiBathaBc7ijppSozP_2GExU&amp;t=1&amp;h=167&amp;w=223&amp;usg=__rOhXHE4EkrOVlaiffLmv4U_-04c="/>
          <p:cNvPicPr/>
          <p:nvPr/>
        </p:nvPicPr>
        <p:blipFill>
          <a:blip r:embed="rId3"/>
          <a:stretch/>
        </p:blipFill>
        <p:spPr>
          <a:xfrm>
            <a:off x="3581280" y="4419720"/>
            <a:ext cx="2057400" cy="15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C:\Documents and Settings\Mrs. Jefferson\Local Settings\Temporary Internet Files\Content.IE5\CXGSD8L9\MC900154778[1].wmf"/>
          <p:cNvPicPr/>
          <p:nvPr/>
        </p:nvPicPr>
        <p:blipFill>
          <a:blip r:embed="rId1"/>
          <a:stretch/>
        </p:blipFill>
        <p:spPr>
          <a:xfrm>
            <a:off x="1600200" y="2819520"/>
            <a:ext cx="2133720" cy="25700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6782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6.  Choose carbohydrates wisel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hoose fruits, vegetables and whole grains.  Limit sugar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8" name="Picture 4" descr="snacksodacollection"/>
          <p:cNvPicPr/>
          <p:nvPr/>
        </p:nvPicPr>
        <p:blipFill>
          <a:blip r:embed="rId2"/>
          <a:stretch/>
        </p:blipFill>
        <p:spPr>
          <a:xfrm>
            <a:off x="5075280" y="2514600"/>
            <a:ext cx="3116160" cy="3371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Documents and Settings\Mrs. Jefferson\Local Settings\Temporary Internet Files\Content.IE5\U9B17W9Z\MC900445714[1].wmf"/>
          <p:cNvPicPr/>
          <p:nvPr/>
        </p:nvPicPr>
        <p:blipFill>
          <a:blip r:embed="rId3"/>
          <a:stretch/>
        </p:blipFill>
        <p:spPr>
          <a:xfrm>
            <a:off x="304920" y="4419720"/>
            <a:ext cx="2460600" cy="1752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Documents and Settings\Mrs. Jefferson\Local Settings\Temporary Internet Files\Content.IE5\3YIBSQ19\MC900445718[1].wmf"/>
          <p:cNvPicPr/>
          <p:nvPr/>
        </p:nvPicPr>
        <p:blipFill>
          <a:blip r:embed="rId4"/>
          <a:stretch/>
        </p:blipFill>
        <p:spPr>
          <a:xfrm>
            <a:off x="1905120" y="4648320"/>
            <a:ext cx="243180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7.  Watch your intake of sodium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What can too much salt/sodium 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do to your body? 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Can cause high blood 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pressure and heart disease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Where does it hide?  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In prepared foods (frozen, 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canned, etc.)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3" name="Picture 6" descr="fit275"/>
          <p:cNvPicPr/>
          <p:nvPr/>
        </p:nvPicPr>
        <p:blipFill>
          <a:blip r:embed="rId1"/>
          <a:stretch/>
        </p:blipFill>
        <p:spPr>
          <a:xfrm>
            <a:off x="5257800" y="2057400"/>
            <a:ext cx="2824200" cy="2152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Mrs. Jefferson\Local Settings\Temporary Internet Files\Content.IE5\PGUXATFU\MC900199440[1].wmf"/>
          <p:cNvPicPr/>
          <p:nvPr/>
        </p:nvPicPr>
        <p:blipFill>
          <a:blip r:embed="rId2"/>
          <a:stretch/>
        </p:blipFill>
        <p:spPr>
          <a:xfrm>
            <a:off x="5105520" y="4343400"/>
            <a:ext cx="251460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ating Right Every Da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Eating right everyday is a good way of insuring your health presently and in the future. 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o eat right, you must make sure to eat balanced meals daily by eating from each of the food group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685800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at Well and Stay Health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mplete the MyFood Tracking Worksheet to determine how you score on the MyPyramid daily goal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emember that the better foods you eat and the more active you are, the healthier you will be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7" name="Picture 21" descr="C:\Documents and Settings\Mrs. Jefferson\Local Settings\Temporary Internet Files\Content.IE5\YHMZUSOC\MC900437379[1].jpg"/>
          <p:cNvPicPr/>
          <p:nvPr/>
        </p:nvPicPr>
        <p:blipFill>
          <a:blip r:embed="rId1"/>
          <a:stretch/>
        </p:blipFill>
        <p:spPr>
          <a:xfrm>
            <a:off x="762120" y="2895480"/>
            <a:ext cx="3962160" cy="3754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3" descr="C:\Documents and Settings\Mrs. Jefferson\Local Settings\Temporary Internet Files\Content.IE5\U9B17W9Z\MC900286866[1].wmf"/>
          <p:cNvPicPr/>
          <p:nvPr/>
        </p:nvPicPr>
        <p:blipFill>
          <a:blip r:embed="rId2"/>
          <a:stretch/>
        </p:blipFill>
        <p:spPr>
          <a:xfrm>
            <a:off x="5943600" y="3886200"/>
            <a:ext cx="2666880" cy="24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Serving Size Quiz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6096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at does a serving size look like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1676520" y="48006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changes of the new MyPyramid from servings to amounts, it seems to have everyone a little confused on portions.  Let’s test your knowledg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Documents and Settings\Mrs. Jefferson\Local Settings\Temporary Internet Files\Content.IE5\CXGSD8L9\MC900112932[1].wmf"/>
          <p:cNvPicPr/>
          <p:nvPr/>
        </p:nvPicPr>
        <p:blipFill>
          <a:blip r:embed="rId1"/>
          <a:stretch/>
        </p:blipFill>
        <p:spPr>
          <a:xfrm>
            <a:off x="2819520" y="2286000"/>
            <a:ext cx="3389040" cy="24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QUIZ:  What Makes a Serving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huge bag of Ruffles is helping you get through your science homework.  You polish off about ½ a bag or 50 chips.  How many servings of chips have you just eaten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90400" indent="-59040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90400" indent="-59040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2 1/2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90400" indent="-59040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05" name="Picture 4" descr="ruffles.jpg"/>
          <p:cNvPicPr/>
          <p:nvPr/>
        </p:nvPicPr>
        <p:blipFill>
          <a:blip r:embed="rId1"/>
          <a:stretch/>
        </p:blipFill>
        <p:spPr>
          <a:xfrm>
            <a:off x="3276720" y="3429000"/>
            <a:ext cx="266688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Answer:  C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fficial serving of Ruffles is one ounce, which is about 10 chips.  Half a bag is 5 serving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08" name="Picture 3" descr="open chips.jpg"/>
          <p:cNvPicPr/>
          <p:nvPr/>
        </p:nvPicPr>
        <p:blipFill>
          <a:blip r:embed="rId1"/>
          <a:stretch/>
        </p:blipFill>
        <p:spPr>
          <a:xfrm>
            <a:off x="4011480" y="3124080"/>
            <a:ext cx="409428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QUIZ:  What Makes a Serving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ne serving of steak is about as big as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deck of card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Howie Day CD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ith cas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c.</a:t>
            </a: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paperback book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11" name="Picture 4" descr="grill_steak"/>
          <p:cNvPicPr/>
          <p:nvPr/>
        </p:nvPicPr>
        <p:blipFill>
          <a:blip r:embed="rId1"/>
          <a:stretch/>
        </p:blipFill>
        <p:spPr>
          <a:xfrm>
            <a:off x="5105520" y="3505320"/>
            <a:ext cx="31827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Answer:  A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fficial serving of steak is three ounces or about as big as a deck of cards.  A typical slab you would get at a steak house would be five times that siz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14" name="Picture 2" descr="C:\Documents and Settings\Mrs. Jefferson\Local Settings\Temporary Internet Files\Content.IE5\CXGSD8L9\MC900433900[1].png"/>
          <p:cNvPicPr/>
          <p:nvPr/>
        </p:nvPicPr>
        <p:blipFill>
          <a:blip r:embed="rId1"/>
          <a:stretch/>
        </p:blipFill>
        <p:spPr>
          <a:xfrm>
            <a:off x="4724280" y="3276720"/>
            <a:ext cx="300996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QUIZ:  What Makes a Serving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ccording to the label on a package of Oreos, one serving has 100 calories and five grams of fat.  How many cookies ar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 a serving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17" name="Picture 4" descr="Oreo_bite"/>
          <p:cNvPicPr/>
          <p:nvPr/>
        </p:nvPicPr>
        <p:blipFill>
          <a:blip r:embed="rId1"/>
          <a:stretch/>
        </p:blipFill>
        <p:spPr>
          <a:xfrm>
            <a:off x="5257800" y="3200400"/>
            <a:ext cx="24811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Answer:  B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fficial serving of Oreos is 2 cookies.  But who can stop at just 2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20" name="Picture 3" descr="cookie serving.jpg"/>
          <p:cNvPicPr/>
          <p:nvPr/>
        </p:nvPicPr>
        <p:blipFill>
          <a:blip r:embed="rId1"/>
          <a:stretch/>
        </p:blipFill>
        <p:spPr>
          <a:xfrm>
            <a:off x="3809880" y="2743200"/>
            <a:ext cx="390996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QUIZ:  What Makes a Serving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label on your favorite brand of ultrasinful ice cream says that one serving has a killer 300 calories and 15 grams of fat.  How many scoops are in one serving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23" name="Picture 4" descr="dis_candy"/>
          <p:cNvPicPr/>
          <p:nvPr/>
        </p:nvPicPr>
        <p:blipFill>
          <a:blip r:embed="rId1"/>
          <a:stretch/>
        </p:blipFill>
        <p:spPr>
          <a:xfrm>
            <a:off x="5715000" y="3429000"/>
            <a:ext cx="2162160" cy="26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nswer:  C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ne official serving is one scoop, just ½ a cup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26" name="Picture 2" descr="C:\Documents and Settings\Mrs. Jefferson\Local Settings\Temporary Internet Files\Content.IE5\U9B17W9Z\MC900412510[1].wmf"/>
          <p:cNvPicPr/>
          <p:nvPr/>
        </p:nvPicPr>
        <p:blipFill>
          <a:blip r:embed="rId1"/>
          <a:stretch/>
        </p:blipFill>
        <p:spPr>
          <a:xfrm>
            <a:off x="3657600" y="2362320"/>
            <a:ext cx="226368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8" descr="foodpyramid_1"/>
          <p:cNvPicPr/>
          <p:nvPr/>
        </p:nvPicPr>
        <p:blipFill>
          <a:blip r:embed="rId1"/>
          <a:stretch/>
        </p:blipFill>
        <p:spPr>
          <a:xfrm>
            <a:off x="3048120" y="1676520"/>
            <a:ext cx="4605120" cy="3627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Food Pyramid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Text Box 100"/>
          <p:cNvSpPr/>
          <p:nvPr/>
        </p:nvSpPr>
        <p:spPr>
          <a:xfrm>
            <a:off x="2286000" y="5410080"/>
            <a:ext cx="914400" cy="228600"/>
          </a:xfrm>
          <a:prstGeom prst="rect">
            <a:avLst/>
          </a:prstGeom>
          <a:solidFill>
            <a:srgbClr val="eb97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GR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1"/>
          <p:cNvSpPr/>
          <p:nvPr/>
        </p:nvSpPr>
        <p:spPr>
          <a:xfrm>
            <a:off x="3276720" y="5410080"/>
            <a:ext cx="914400" cy="228600"/>
          </a:xfrm>
          <a:prstGeom prst="rect">
            <a:avLst/>
          </a:prstGeom>
          <a:solidFill>
            <a:srgbClr val="33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VEGE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2"/>
          <p:cNvSpPr/>
          <p:nvPr/>
        </p:nvSpPr>
        <p:spPr>
          <a:xfrm>
            <a:off x="4267080" y="5410080"/>
            <a:ext cx="914400" cy="228600"/>
          </a:xfrm>
          <a:prstGeom prst="rect">
            <a:avLst/>
          </a:prstGeom>
          <a:solidFill>
            <a:srgbClr val="b72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FRU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3"/>
          <p:cNvSpPr/>
          <p:nvPr/>
        </p:nvSpPr>
        <p:spPr>
          <a:xfrm>
            <a:off x="5257800" y="5410080"/>
            <a:ext cx="914400" cy="228600"/>
          </a:xfrm>
          <a:prstGeom prst="rect">
            <a:avLst/>
          </a:prstGeom>
          <a:solidFill>
            <a:srgbClr val="f9d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O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4"/>
          <p:cNvSpPr/>
          <p:nvPr/>
        </p:nvSpPr>
        <p:spPr>
          <a:xfrm>
            <a:off x="6248520" y="5410080"/>
            <a:ext cx="914400" cy="228600"/>
          </a:xfrm>
          <a:prstGeom prst="rect">
            <a:avLst/>
          </a:prstGeom>
          <a:solidFill>
            <a:srgbClr val="60c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MI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5"/>
          <p:cNvSpPr/>
          <p:nvPr/>
        </p:nvSpPr>
        <p:spPr>
          <a:xfrm>
            <a:off x="7238880" y="5410080"/>
            <a:ext cx="914400" cy="228600"/>
          </a:xfrm>
          <a:prstGeom prst="rect">
            <a:avLst/>
          </a:prstGeom>
          <a:solidFill>
            <a:srgbClr val="796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MEAT &amp; B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QUIZ:  What Makes a Serving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47560" y="167616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n “official” serving of french fries contains 3 ounces.  How many servings are in a McDonald’s Super Size french fries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29" name="Picture 4" descr="Small French Fries"/>
          <p:cNvPicPr/>
          <p:nvPr/>
        </p:nvPicPr>
        <p:blipFill>
          <a:blip r:embed="rId1"/>
          <a:stretch/>
        </p:blipFill>
        <p:spPr>
          <a:xfrm>
            <a:off x="4572000" y="3124080"/>
            <a:ext cx="3495600" cy="29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nswer:  C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Super Size french fries contains three official servings, adding up to 540 calori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32" name="Picture 3" descr="super size.jpg"/>
          <p:cNvPicPr/>
          <p:nvPr/>
        </p:nvPicPr>
        <p:blipFill>
          <a:blip r:embed="rId1"/>
          <a:stretch/>
        </p:blipFill>
        <p:spPr>
          <a:xfrm>
            <a:off x="4495680" y="2743200"/>
            <a:ext cx="27432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QUIZ:  What Makes a Serving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7-Eleven Double Gulp contains how many servings of soda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spcBef>
                <a:spcPts val="601"/>
              </a:spcBef>
              <a:buClr>
                <a:srgbClr val="99cc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35" name="Picture 4" descr="711_biggulpcola_d"/>
          <p:cNvPicPr/>
          <p:nvPr/>
        </p:nvPicPr>
        <p:blipFill>
          <a:blip r:embed="rId1"/>
          <a:stretch/>
        </p:blipFill>
        <p:spPr>
          <a:xfrm>
            <a:off x="5105520" y="2590920"/>
            <a:ext cx="3386160" cy="37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nswer:  C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47560" y="175212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Double Gulp has eight servings, more than enough to quench the thirst of a large family. A can of soda contains 1 ½ serving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38" name="Picture 2" descr="C:\Documents and Settings\Mrs. Jefferson\Local Settings\Temporary Internet Files\Content.IE5\PGUXATFU\MC900433913[1].png"/>
          <p:cNvPicPr/>
          <p:nvPr/>
        </p:nvPicPr>
        <p:blipFill>
          <a:blip r:embed="rId1"/>
          <a:stretch/>
        </p:blipFill>
        <p:spPr>
          <a:xfrm>
            <a:off x="990720" y="32767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:\Documents and Settings\Mrs. Jefferson\Local Settings\Temporary Internet Files\Content.IE5\PGUXATFU\MC900433913[1].png"/>
          <p:cNvPicPr/>
          <p:nvPr/>
        </p:nvPicPr>
        <p:blipFill>
          <a:blip r:embed="rId2"/>
          <a:stretch/>
        </p:blipFill>
        <p:spPr>
          <a:xfrm>
            <a:off x="6629400" y="4952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:\Documents and Settings\Mrs. Jefferson\Local Settings\Temporary Internet Files\Content.IE5\PGUXATFU\MC900433913[1].png"/>
          <p:cNvPicPr/>
          <p:nvPr/>
        </p:nvPicPr>
        <p:blipFill>
          <a:blip r:embed="rId3"/>
          <a:stretch/>
        </p:blipFill>
        <p:spPr>
          <a:xfrm>
            <a:off x="6477120" y="3429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C:\Documents and Settings\Mrs. Jefferson\Local Settings\Temporary Internet Files\Content.IE5\PGUXATFU\MC900433913[1].png"/>
          <p:cNvPicPr/>
          <p:nvPr/>
        </p:nvPicPr>
        <p:blipFill>
          <a:blip r:embed="rId4"/>
          <a:stretch/>
        </p:blipFill>
        <p:spPr>
          <a:xfrm>
            <a:off x="4724280" y="4952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C:\Documents and Settings\Mrs. Jefferson\Local Settings\Temporary Internet Files\Content.IE5\PGUXATFU\MC900433913[1].png"/>
          <p:cNvPicPr/>
          <p:nvPr/>
        </p:nvPicPr>
        <p:blipFill>
          <a:blip r:embed="rId5"/>
          <a:stretch/>
        </p:blipFill>
        <p:spPr>
          <a:xfrm>
            <a:off x="4648320" y="3429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C:\Documents and Settings\Mrs. Jefferson\Local Settings\Temporary Internet Files\Content.IE5\PGUXATFU\MC900433913[1].png"/>
          <p:cNvPicPr/>
          <p:nvPr/>
        </p:nvPicPr>
        <p:blipFill>
          <a:blip r:embed="rId6"/>
          <a:stretch/>
        </p:blipFill>
        <p:spPr>
          <a:xfrm>
            <a:off x="2743200" y="4876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C:\Documents and Settings\Mrs. Jefferson\Local Settings\Temporary Internet Files\Content.IE5\PGUXATFU\MC900433913[1].png"/>
          <p:cNvPicPr/>
          <p:nvPr/>
        </p:nvPicPr>
        <p:blipFill>
          <a:blip r:embed="rId7"/>
          <a:stretch/>
        </p:blipFill>
        <p:spPr>
          <a:xfrm>
            <a:off x="2819520" y="33526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C:\Documents and Settings\Mrs. Jefferson\Local Settings\Temporary Internet Files\Content.IE5\PGUXATFU\MC900433913[1].png"/>
          <p:cNvPicPr/>
          <p:nvPr/>
        </p:nvPicPr>
        <p:blipFill>
          <a:blip r:embed="rId8"/>
          <a:stretch/>
        </p:blipFill>
        <p:spPr>
          <a:xfrm>
            <a:off x="990720" y="48006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o how did you do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47" name="Picture 3" descr="C:\Documents and Settings\Mrs. Jefferson\Local Settings\Temporary Internet Files\Content.IE5\U9B17W9Z\MC900060279[1].wmf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1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7" descr="foodpyramid_bre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entury Gothic"/>
              </a:rPr>
              <a:t>Grain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Make half of your grains whole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6096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at at least 3 ounces of grains dail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5280" indent="-3052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rains have 2 subgroup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499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ole grains such as whole grain bread and flour, brown rice, oatmeal, etc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499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fined grains that are missing a lot of dietary fiber, iron and vitamins such as white rice, white flour, white brea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5280" indent="-3052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ods that are considered grains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499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read, cereal, rice, crackers, pasta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8" name="Picture 31" descr="Grains"/>
          <p:cNvPicPr/>
          <p:nvPr/>
        </p:nvPicPr>
        <p:blipFill>
          <a:blip r:embed="rId2"/>
          <a:stretch/>
        </p:blipFill>
        <p:spPr>
          <a:xfrm>
            <a:off x="2895480" y="5181480"/>
            <a:ext cx="368316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9" descr="foodpyramid_vegg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entury Gothic"/>
              </a:rPr>
              <a:t>Vegetable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Vary your veggie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6096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at at least 2 ½ cups daily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40120" indent="-24012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Vegetables may be raw, cooked, fresh, frozen, canned, dried/dehydrated, whole, cut or mashe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40120" indent="-24012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arker in color=the more nutrients and antioxidants the vegetables have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40120" indent="-24012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ome vegetables would be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519840" indent="-199800">
              <a:spcBef>
                <a:spcPts val="499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arrots, greens, beans, cauliflower, cucumbers, squash, zucchini, potatoes, etc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0" descr="foodpyramid_fru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Fruits</a:t>
            </a:r>
            <a:br>
              <a:rPr sz="36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Focus on fruit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60962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at at least 1 ½ to 2 cups dail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-28800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ruits are naturally sweet and great to use for desser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-28800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ruit may be fresh, canned, frozen, dried, whole, cut up or pure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-28800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arker the color- the higher the antioxidant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88000" indent="-28800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ruit choices include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23880" indent="-239760">
              <a:spcBef>
                <a:spcPts val="499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pples, oranges, bananas, grapes, plums, watermelon, etc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1" descr="foodpyramid_proti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entury Gothic"/>
              </a:rPr>
              <a:t>Meat and Bean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Go lean on protein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commended daily allowance for meat is 5-6 ounces daily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ost meat and poultry choices should be lean or low f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ake, broil, grill or sauté with olive oil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atty fish, like salmon and nuts like walnuts and almonds contain heart healthy unsaturated fats and omega-3 fatty acids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ome meat choices include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Ham, chicken, fish, eggs, nuts, steak, burgers, etc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2" descr="foodpyramid_mi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entury Gothic"/>
              </a:rPr>
              <a:t>Milk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Get your calcium rich food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commended daily allowance for the milk group is 3 cups dail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ods made from milk that retain their calcium are a part of this group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ods that have little to no calcium are not such as cream cheese, cream, and butt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ilk products would include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ilk, cheese, yogurt, ice cream, puddings made with milk, etc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7" descr="foodpyramid_o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Gothic"/>
              </a:rPr>
              <a:t>Oils</a:t>
            </a:r>
            <a:br>
              <a:rPr sz="36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Know your fat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commended daily allowance for oil is 5-6 teaspo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imit solid (saturated) fats like butter, margarine, shortening and lar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void foods with trans-fat, created by hydrogenated oils added to food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ost Americans consume enough oil from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ut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sh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alad dressing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oking oi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4" name="Picture 19" descr="Oils"/>
          <p:cNvPicPr/>
          <p:nvPr/>
        </p:nvPicPr>
        <p:blipFill>
          <a:blip r:embed="rId2"/>
          <a:stretch/>
        </p:blipFill>
        <p:spPr>
          <a:xfrm>
            <a:off x="4876920" y="4648320"/>
            <a:ext cx="1904760" cy="1887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00:04:39Z</dcterms:created>
  <dc:creator>Connie Campbell</dc:creator>
  <dc:description/>
  <dc:language>en-US</dc:language>
  <cp:lastModifiedBy>Kidd</cp:lastModifiedBy>
  <dcterms:modified xsi:type="dcterms:W3CDTF">2012-11-24T03:18:15Z</dcterms:modified>
  <cp:revision>11</cp:revision>
  <dc:subject/>
  <dc:title>th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8041033</vt:lpwstr>
  </property>
</Properties>
</file>